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C1D-CE9B-4A46-BB51-EDCC67D4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F70-B373-4601-A71B-7515C267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22B-5181-4308-9EFE-7A591B07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AED-8EC2-4590-95FE-C5806C90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D9C-69D9-4CD4-86E5-8F67663C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014-4F1A-4473-992C-AB69962A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3BC-ED65-48F4-BEEA-8B29071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BCC-5438-4A44-8238-EB848F9B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37E-E1A5-40CF-8554-236BBC5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929-AC3E-4B3F-9AD6-470D19B3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153-1569-4B31-91B3-21BFC66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DC8-D9BB-4A9F-81E7-241BEDA2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79F9-5828-4FB9-8239-F125B938F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cess-Independent FPGA Interconnect in Py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F. R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cess-Independent FPGA Interconnect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PyCel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lean code to showcase Py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ed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Cell is quite good but handles objects in a weird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OO structure is destroyed (flattened, burned, etc) after object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most out of PyCell, I set to fix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nce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duplicates DloGen procedure, saving inter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vides method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track of and auto-completing routing l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ymmetrical abu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e Transi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MyTransistorUnit in the tutorial, but provides many handy access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instead of, to get a transistor object’s drain rectang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: tran.getComp(-3).getRect1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ran.dr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T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C independent, but sti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gon-pu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concept of “lanes” to which to tie to the Q or Q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nternally manipulated after creation, e.g. adding spa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soft-tiled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oretically) Bitcell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polygon-pushed to achieve a simpler tiling (wasted too much time on thi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D, VSS, BL, and WL are auto-genera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Cell extension works as hop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ndependent layout is quite easy, although polygon-pushing is still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 mostly complete, need to finish debugging lane anchoring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6:37:44Z</dcterms:created>
  <dc:creator>Joseph F. Ryan</dc:creator>
  <dc:description/>
  <dc:language>en-US</dc:language>
  <cp:lastModifiedBy>Joseph F. Ryan</cp:lastModifiedBy>
  <dcterms:modified xsi:type="dcterms:W3CDTF">2010-05-07T18:08:39Z</dcterms:modified>
  <cp:revision>10</cp:revision>
  <dc:subject/>
  <dc:title>A Process-Independent FPGA Interconnect in PyCell</dc:title>
</cp:coreProperties>
</file>